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a:t>
            </a:r>
            <a:r>
              <a:rPr b="0" lang="sr-RS" sz="2800" spc="-1" strike="noStrike">
                <a:solidFill>
                  <a:srgbClr val="000000"/>
                </a:solidFill>
                <a:latin typeface="Arial"/>
              </a:rPr>
              <a:t>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docrine System</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rliest reference to the endocrine system comes from ancient Greece, in about 400 BC. However, it was not until the 16</a:t>
            </a:r>
            <a:r>
              <a:rPr b="0" lang="en-US" sz="2000" spc="-1" strike="noStrike" baseline="30000">
                <a:solidFill>
                  <a:srgbClr val="000000"/>
                </a:solidFill>
                <a:latin typeface="Arial"/>
              </a:rPr>
              <a:t>th</a:t>
            </a:r>
            <a:r>
              <a:rPr b="0" lang="en-US" sz="2000" spc="-1" strike="noStrike">
                <a:solidFill>
                  <a:srgbClr val="000000"/>
                </a:solidFill>
                <a:latin typeface="Arial"/>
              </a:rPr>
              <a:t> century that accurate anatomical descriptions of many of the endocrine organs were published. Research during the 20</a:t>
            </a:r>
            <a:r>
              <a:rPr b="0" lang="en-US" sz="2000" spc="-1" strike="noStrike" baseline="30000">
                <a:solidFill>
                  <a:srgbClr val="000000"/>
                </a:solidFill>
                <a:latin typeface="Arial"/>
              </a:rPr>
              <a:t>th</a:t>
            </a:r>
            <a:r>
              <a:rPr b="0" lang="en-US" sz="2000" spc="-1" strike="noStrike">
                <a:solidFill>
                  <a:srgbClr val="000000"/>
                </a:solidFill>
                <a:latin typeface="Arial"/>
              </a:rPr>
              <a:t> century has vastly improved our understanding of hormones and how they function in the body. Today, endocrinology, the study of the endocrine glands, is an important branch of modern medicine. Endocrinologists are medical doctors who specialize in researching and treating disorders and diseases of the endocrine syste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ocrine system is a group of specialized organs and body tissues that produce, store and secrete chemical substances known as hormon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an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uitary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alam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ph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yroid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thyroid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eal 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renal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nohypoph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hypophy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endocrinolo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ndocrine system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endocrine gl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glands make up the human endocrin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the pituitary gland described as the body’s master gla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ole of hormones secreted by the anterior lo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hormone causes breast development and milk pro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enkephalins and endorph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posterior lobe of hypophysis con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oxytocin and vasopressin so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synonyms for each of the following words:</a:t>
            </a:r>
            <a:endParaRPr b="0" lang="en-US" sz="2400" spc="-1" strike="noStrike">
              <a:solidFill>
                <a:srgbClr val="000000"/>
              </a:solidFill>
              <a:latin typeface="Arial"/>
            </a:endParaRPr>
          </a:p>
        </p:txBody>
      </p:sp>
      <p:sp>
        <p:nvSpPr>
          <p:cNvPr id="48"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is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fu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ntonyms for each of the following word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the phrasal verbs in column A with their meanings in column B:</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B</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about                       To regain health or success after illnes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on                            To rise; be increased; become hig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over                         To be allowed to continue with somethin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 up                            To lose consciousness due to a drug, g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ahead with               To cause to leave one’s bed after an ill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down with                 To advance, go we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under                        To be able to move again after illnes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 up                              To become ill with a dise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 with a phrasal verb from the list below:</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brother is much better but the doctor says he’s not to.................ye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holiday was fine until Jim......................a bad cold; after that, it all got rather dul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 temperature is........................; she must stay in b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mother is much better now; she is able to..................a bit mor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hock like that isn’t easil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was seriously injured. How is h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ard gave us permission to.......................with this kind of treatme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start the operation till you are sure she h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Код хипертиреозе, у крви циркулишу ненормално високи нивои хормона штитасте жлезде. Први који је дијагностиковао ову болест био је К. Базедов, који је живео почетком 19. века и успео да уочи све симптоме: увећана штитаста жлезда, буљаве очи, убрзан пулс, обилно знојење, умор, појачан метаболизам који доводи до смањења телесне тежине и неуролошки симптоми, као што су узнемиреност, раздражљивост и благо подрхтавање мишића. Нивои циркулишућих тиреоидних хормона зависе од више ствари: нивоа минерала јода, нивоа ТСХ које ослобађа хипофиза (смештена у средишњем делу мозга) и стања саме штитасте жлезде. Центри за контролу нивоа ТСХ смештени су у хипоталамусу. Код здравог појединца ова формула постиже се веома једноставно: како нивои ТСХ расту, подижу се и нивои тиреоидног хормона док се не достигне равнотеж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23T16:17:52Z</dcterms:modified>
  <cp:revision>13</cp:revision>
  <dc:subject/>
  <dc:title>Slide 1</dc:title>
</cp:coreProperties>
</file>